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6CEA2-CBE3-4324-AA72-86AE55A8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63EB3-9166-49CE-925D-E930AC56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29D91-184A-4852-820B-E4DD18C9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36048-454C-45C5-AE3D-96D279BE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5ACFA-B900-4C70-B1B7-CD137D98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711C5-2E54-408A-BB4F-2AF5C609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9ECB1-EB28-446A-87F6-837076EC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D0EC2-7329-42E3-AAC7-8B114D37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D5C31-ADAE-4C4E-9282-59763CDA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08150-80ED-4641-8D72-2202D504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6DA8E-71EA-4160-83EF-9CDB4E6A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593FA-29E5-4EDA-B5D4-101FAAA7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043B0-B147-40A5-883A-5BBC9F82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20A6E-D65B-4BC4-AE7B-E54DC847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C48C9-469A-4464-B90A-5CF9B814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2A5B2-0083-4F34-BE55-DB7B1FC5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55DC5-2931-41F2-A48E-36B30313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10BD6-13DA-46ED-AD91-E21BF6C8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CCF49-E770-4535-AE14-EC2D1848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6D8BF-B409-4C64-A573-D4EDFEE9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0A6AA-E5AE-4F3C-928E-4C43B84C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56B8A-0979-4F28-9B6F-13FC197D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57B5E-22C2-4A70-99A3-EE7D5E3C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70D5E-809C-4FFB-9F61-F9F527AF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4D729-0F6B-438E-9F87-53DEFBB6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76604-A1D6-4ADC-8AA5-11B92B45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EC96F-47E8-4F65-9CDE-42B41374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880D8-E9D4-40CD-BE3F-9A53E3F1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E1D3E-6169-4C90-BF30-5B4D34C9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9BEA9-9D70-4872-90B8-F6E636E3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EC2-2685-41D4-93C1-DEB24EE5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3C198-F3A8-490A-80B0-1A3764AE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804B3-13AD-4E82-BC0B-C5BF57FC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D7393-42AB-466C-ABA0-B02B9F41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6F2E3-42AD-4BB7-BE22-B88C29BA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D2BD7-F9E4-429E-8DFF-1CDC81EF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79031-62AF-40AB-98B6-524EAC3E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44F55-FDD3-4873-B97F-037A822E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C12B0-BE1F-4CAC-B216-17252A07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89B48-4BF5-46A4-8D16-760CC9AC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46FF3-DCC9-4341-AEB3-5EE53682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F85C-3C53-4E45-94E5-33BCC787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82D24-AEE0-4E14-A6A3-28B0DA10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9CAF3-55C7-4C30-B2D2-479D7840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7F2F9-9D5D-4059-94E8-6C264D92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92EBE-52AF-44D9-8C4C-EEF32B3B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60E3C-3177-41ED-AF60-71FAE96B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CE5B9-FC92-4FC6-9F6D-27F0A3AA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A2671-F589-4235-8CE3-5EFB1959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16D0E-8772-4F43-BFD3-ADCDED7B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92DE3-9E92-480B-990A-3D3EC374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9E900-27A5-4E63-A9CD-9204445C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C4A1-AC4A-4B1D-A0DB-4541C6D5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6EBF0-49CB-4DBC-8295-75886E2E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657A0-84E7-4E36-953B-BE36749B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F1802-A45B-4A68-B832-2A613713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6C9D9-9BA2-4B5A-90F4-CB415A8C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75AEE-72B0-4EA8-B24E-97B9FC7F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41771-D20A-433F-95BF-A0D0F63E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5A79B-5564-485A-B80F-EF6F9E99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6A9F9-3D29-4147-8095-CFD5D4BB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9CCC6-C744-4218-B3D4-DD607677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F951D-20C8-402A-AB40-B942E5AF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7F1F-BE65-4B22-A456-0A6E157B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9172F-2FC0-4F47-A5EB-0D1C8535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0FD02-4575-4983-B1FD-E88D87A6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9FAB2-6CCC-4D05-97F0-E3F0027B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7B5D9-7215-4D2E-B075-F21F8839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C8A9A-3D4C-4FDF-94C9-00D52522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D47C7-4A85-4370-B543-4CC55B7F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4001E-0811-47C2-8D80-74A4E65A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86B5E-63EF-4A28-B0A1-C0F5E5B7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EF5BA-446A-499F-9789-FA496F68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7C30-6EDB-4368-AD59-A5A81CB4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A01-D415-4908-BE94-9AF96FCE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10C0-2CE9-4C4C-B817-FA6823D4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32B-B0C2-47B1-A60C-FBFAFBA1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9F9E-EDD5-4DC4-A76A-0EF4A381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52DA-EC95-49A7-A2B3-FEE0810D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2CD-C6D6-46AA-B2EA-43948B02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606B-BD3E-4369-8448-5FAB4108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4A90-C25B-4215-94C2-5542A044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C7DA-9AAE-4F81-8B47-09F159E3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3CD1-70C8-4E40-B3CE-12B449B9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4C07-B21F-44C5-AE33-3231C57B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D32D-75D0-4F97-9643-52C3A8AF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2C67-B91B-4E34-ABE2-B61C93F9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6BC3-8920-4371-B754-B6E0CD84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EB11-45E4-477D-94D7-91B62C5E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75F7-8AE2-4A13-A6F3-A3399063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5DD7-8FB8-45AD-8DD0-4252962B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CB14-F95A-4DC0-8FF6-2BAC589A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3AA3-FF57-4F8D-A482-04FBECF0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79718-9E16-4B80-8C10-A5B9F337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77CD8-4343-4BA4-A5F0-D9042415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AC881-A6CA-4EC9-B6A8-7CBD18B2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80113-FD3F-40C9-80C2-CA127578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6DC00-8337-405D-8AD1-7F2FF67E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069A6-EA1C-4540-A6F2-1FD4FFF3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B8369-B7EC-498B-920B-C7546530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247FC-23DE-4488-A758-2419AE77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84A6B-EC07-4BFA-BE6A-0F497E19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6D4D9-DB41-4DD6-9C1C-A7ABD08C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EAAC5-B9E0-4001-A827-5257E6F9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7357D-1232-4468-82E2-842297F0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FF5AD-8086-433D-98DF-79456E70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1C022-1B5F-45A7-BF4E-8FCCB272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91E98-5E58-4C9D-A12B-E2C04EF2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D1D31-EB41-46F1-93BD-FD3E0948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A39A8-5401-4F5C-974F-182F4F69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8FD82-3EB8-4C8D-B9AB-6494F0CE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CD64D-EA01-40DA-B9E5-3F428194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D08D1-9C66-407F-BC9B-D694A37C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1BF9B-243A-4053-AE9B-5481C0B3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0C31B-1D0E-43A3-91A5-29B43CDB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9ADB0-11DC-43FE-BA2F-6C17F1D4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718E3-A3B3-4DCA-B366-DD9D9C93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16ABE-785B-46AC-8ED6-B355981B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60F6D-2A7F-442A-8B2B-5E51F74E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5E1A2-8F88-448B-BC12-E2A1FD35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69CF4-D95C-48BE-848C-D37D7CD4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A54FD-AA7F-48A2-9BA2-73746345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CE515-B5F1-43AB-85F5-3B8F50FF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DB884-689C-47E2-B40F-4E187633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6034A-6B80-42AB-8793-E7E36A17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7C8D0-4605-4D9F-80FE-6B70C77D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9AE39-0F45-48CE-B5D5-B8D9A688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1804A-5DA7-46DA-B1FE-F423615C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D1C9F-C7A3-42BA-8110-8138A9C7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44409-18A6-4D72-B4C8-00B46B8D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BAA16-98BC-48F3-8538-2F1B9780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BC899-A06C-4BBC-97AB-96531729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48EC2-37FD-4667-AB1E-5442119C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FD7DE-A05E-4676-AB62-832C77B5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39640" y="2505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9EDBE-0560-4364-BE7C-2F7CDD64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DDBE5-8BFB-4AA9-9E44-EB782345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5BEFA-BC0A-4B89-BFE9-B6068E86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457A1-5569-4153-A1FC-410D1EBC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2975400"/>
            <a:ext cx="822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7F4D3-A90F-43A5-B8E3-3AFA6CA0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2975400"/>
            <a:ext cx="40158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73312-F9E1-48FE-8DB1-C023E4BD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2975400"/>
            <a:ext cx="26496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46F8A-324D-4A67-A73F-6FE2F85E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B91EC-AD50-467C-B7A3-2A056632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8C38D-8D92-4B97-958B-087F9EED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63047-656B-4257-BC0D-CA2713E9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6841-BB2B-4FA1-9B4F-24FCC7E9A5D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91D4-E5E8-45BA-942E-67F0A67D8FD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8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9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86D2-51A5-49DF-B646-C565F8A2412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675A-ABEB-416D-8D6C-D6F7C9B8077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ECE2-8D11-42DB-A37D-81ADA066B84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图片 3584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728640"/>
          </a:xfrm>
          <a:prstGeom prst="rect">
            <a:avLst/>
          </a:prstGeom>
          <a:ln w="0">
            <a:noFill/>
          </a:ln>
        </p:spPr>
      </p:pic>
      <p:grpSp>
        <p:nvGrpSpPr>
          <p:cNvPr id="37" name="组合 35842"/>
          <p:cNvGrpSpPr/>
          <p:nvPr/>
        </p:nvGrpSpPr>
        <p:grpSpPr>
          <a:xfrm>
            <a:off x="610920" y="3975120"/>
            <a:ext cx="7615440" cy="830160"/>
            <a:chOff x="610920" y="3975120"/>
            <a:chExt cx="7615440" cy="830160"/>
          </a:xfrm>
        </p:grpSpPr>
        <p:sp>
          <p:nvSpPr>
            <p:cNvPr id="38" name="椭圆 35843"/>
            <p:cNvSpPr/>
            <p:nvPr/>
          </p:nvSpPr>
          <p:spPr>
            <a:xfrm flipH="1">
              <a:off x="4407840" y="3975120"/>
              <a:ext cx="11048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椭圆 35844"/>
            <p:cNvSpPr/>
            <p:nvPr/>
          </p:nvSpPr>
          <p:spPr>
            <a:xfrm flipH="1">
              <a:off x="7123320" y="3975120"/>
              <a:ext cx="1103040" cy="82872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椭圆 35845"/>
            <p:cNvSpPr/>
            <p:nvPr/>
          </p:nvSpPr>
          <p:spPr>
            <a:xfrm flipH="1">
              <a:off x="610560" y="3976200"/>
              <a:ext cx="1103400" cy="8290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椭圆 35846"/>
            <p:cNvSpPr/>
            <p:nvPr/>
          </p:nvSpPr>
          <p:spPr>
            <a:xfrm flipH="1">
              <a:off x="586368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椭圆 35847"/>
            <p:cNvSpPr/>
            <p:nvPr/>
          </p:nvSpPr>
          <p:spPr>
            <a:xfrm flipH="1">
              <a:off x="1897920" y="3975120"/>
              <a:ext cx="1103400" cy="82872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4258-C57F-43BA-829D-CEC7EC9A44C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36865"/>
          <p:cNvGrpSpPr/>
          <p:nvPr/>
        </p:nvGrpSpPr>
        <p:grpSpPr>
          <a:xfrm>
            <a:off x="1658520" y="1200240"/>
            <a:ext cx="6837840" cy="2399760"/>
            <a:chOff x="1658520" y="1200240"/>
            <a:chExt cx="6837840" cy="2399760"/>
          </a:xfrm>
        </p:grpSpPr>
        <p:sp>
          <p:nvSpPr>
            <p:cNvPr id="121" name="椭圆 36866"/>
            <p:cNvSpPr/>
            <p:nvPr/>
          </p:nvSpPr>
          <p:spPr>
            <a:xfrm flipH="1">
              <a:off x="697212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36867"/>
            <p:cNvSpPr/>
            <p:nvPr/>
          </p:nvSpPr>
          <p:spPr>
            <a:xfrm flipH="1">
              <a:off x="5181480" y="1200240"/>
              <a:ext cx="152424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椭圆 36868"/>
            <p:cNvSpPr/>
            <p:nvPr/>
          </p:nvSpPr>
          <p:spPr>
            <a:xfrm flipH="1">
              <a:off x="3390120" y="1200240"/>
              <a:ext cx="152388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36869"/>
            <p:cNvSpPr/>
            <p:nvPr/>
          </p:nvSpPr>
          <p:spPr>
            <a:xfrm flipH="1">
              <a:off x="339012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36870"/>
            <p:cNvSpPr/>
            <p:nvPr/>
          </p:nvSpPr>
          <p:spPr>
            <a:xfrm flipH="1">
              <a:off x="1658160" y="2457360"/>
              <a:ext cx="1523880" cy="11426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36871"/>
            <p:cNvSpPr/>
            <p:nvPr/>
          </p:nvSpPr>
          <p:spPr>
            <a:xfrm flipH="1">
              <a:off x="6972120" y="2457360"/>
              <a:ext cx="1524240" cy="11426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20B1-78F4-44D0-BEA8-8667AE894D0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C426-7662-4C2A-AD41-71063D25AB2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FEB0-735D-4B74-A2F4-543135987F1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F06B-AB4F-4B08-893C-441407AA081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9ABA-05E1-4ED0-8F0B-7419385F1F4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0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45684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6480"/>
            <a:ext cx="2133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66E3-20B1-486F-A76C-2D4069AB4A0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标题 1"/>
          <p:cNvSpPr/>
          <p:nvPr/>
        </p:nvSpPr>
        <p:spPr>
          <a:xfrm>
            <a:off x="3052800" y="2182680"/>
            <a:ext cx="3313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语文园地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组合 58"/>
          <p:cNvGrpSpPr/>
          <p:nvPr/>
        </p:nvGrpSpPr>
        <p:grpSpPr>
          <a:xfrm>
            <a:off x="1278000" y="1697040"/>
            <a:ext cx="820800" cy="804960"/>
            <a:chOff x="1278000" y="1697040"/>
            <a:chExt cx="820800" cy="804960"/>
          </a:xfrm>
        </p:grpSpPr>
        <p:sp>
          <p:nvSpPr>
            <p:cNvPr id="649" name="矩形 2"/>
            <p:cNvSpPr/>
            <p:nvPr/>
          </p:nvSpPr>
          <p:spPr>
            <a:xfrm>
              <a:off x="1278000" y="1697040"/>
              <a:ext cx="792360" cy="792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直接连接符 3"/>
            <p:cNvSpPr/>
            <p:nvPr/>
          </p:nvSpPr>
          <p:spPr>
            <a:xfrm>
              <a:off x="1306440" y="2094120"/>
              <a:ext cx="79236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直接连接符 4"/>
            <p:cNvSpPr/>
            <p:nvPr/>
          </p:nvSpPr>
          <p:spPr>
            <a:xfrm>
              <a:off x="1674720" y="1709640"/>
              <a:ext cx="0" cy="792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TextBox 5"/>
          <p:cNvSpPr/>
          <p:nvPr/>
        </p:nvSpPr>
        <p:spPr>
          <a:xfrm>
            <a:off x="1332000" y="68904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进   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6"/>
          <p:cNvSpPr/>
          <p:nvPr/>
        </p:nvSpPr>
        <p:spPr>
          <a:xfrm>
            <a:off x="544680" y="1771560"/>
            <a:ext cx="6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组合 58"/>
          <p:cNvGrpSpPr/>
          <p:nvPr/>
        </p:nvGrpSpPr>
        <p:grpSpPr>
          <a:xfrm>
            <a:off x="2543040" y="1711440"/>
            <a:ext cx="820800" cy="804600"/>
            <a:chOff x="2543040" y="1711440"/>
            <a:chExt cx="820800" cy="804600"/>
          </a:xfrm>
        </p:grpSpPr>
        <p:sp>
          <p:nvSpPr>
            <p:cNvPr id="655" name="矩形 8"/>
            <p:cNvSpPr/>
            <p:nvPr/>
          </p:nvSpPr>
          <p:spPr>
            <a:xfrm>
              <a:off x="2543040" y="1711440"/>
              <a:ext cx="792360" cy="79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直接连接符 9"/>
            <p:cNvSpPr/>
            <p:nvPr/>
          </p:nvSpPr>
          <p:spPr>
            <a:xfrm>
              <a:off x="2571480" y="2108160"/>
              <a:ext cx="79236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直接连接符 10"/>
            <p:cNvSpPr/>
            <p:nvPr/>
          </p:nvSpPr>
          <p:spPr>
            <a:xfrm>
              <a:off x="2939760" y="1724040"/>
              <a:ext cx="0" cy="79200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TextBox 11"/>
          <p:cNvSpPr/>
          <p:nvPr/>
        </p:nvSpPr>
        <p:spPr>
          <a:xfrm>
            <a:off x="3463920" y="1798560"/>
            <a:ext cx="6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12"/>
          <p:cNvSpPr/>
          <p:nvPr/>
        </p:nvSpPr>
        <p:spPr>
          <a:xfrm>
            <a:off x="1355760" y="17384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3"/>
          <p:cNvSpPr/>
          <p:nvPr/>
        </p:nvSpPr>
        <p:spPr>
          <a:xfrm>
            <a:off x="2610000" y="173988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组合 58"/>
          <p:cNvGrpSpPr/>
          <p:nvPr/>
        </p:nvGrpSpPr>
        <p:grpSpPr>
          <a:xfrm>
            <a:off x="4834080" y="1697040"/>
            <a:ext cx="819000" cy="806400"/>
            <a:chOff x="4834080" y="1697040"/>
            <a:chExt cx="819000" cy="806400"/>
          </a:xfrm>
        </p:grpSpPr>
        <p:sp>
          <p:nvSpPr>
            <p:cNvPr id="662" name="矩形 15"/>
            <p:cNvSpPr/>
            <p:nvPr/>
          </p:nvSpPr>
          <p:spPr>
            <a:xfrm>
              <a:off x="4834080" y="1697040"/>
              <a:ext cx="790560" cy="793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直接连接符 16"/>
            <p:cNvSpPr/>
            <p:nvPr/>
          </p:nvSpPr>
          <p:spPr>
            <a:xfrm>
              <a:off x="4862520" y="2093760"/>
              <a:ext cx="79056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直接连接符 17"/>
            <p:cNvSpPr/>
            <p:nvPr/>
          </p:nvSpPr>
          <p:spPr>
            <a:xfrm>
              <a:off x="5229360" y="1709640"/>
              <a:ext cx="0" cy="79380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TextBox 18"/>
          <p:cNvSpPr/>
          <p:nvPr/>
        </p:nvSpPr>
        <p:spPr>
          <a:xfrm>
            <a:off x="5454720" y="68724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带   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8"/>
          <p:cNvGrpSpPr/>
          <p:nvPr/>
        </p:nvGrpSpPr>
        <p:grpSpPr>
          <a:xfrm>
            <a:off x="7319880" y="1687680"/>
            <a:ext cx="819360" cy="806400"/>
            <a:chOff x="7319880" y="1687680"/>
            <a:chExt cx="819360" cy="806400"/>
          </a:xfrm>
        </p:grpSpPr>
        <p:sp>
          <p:nvSpPr>
            <p:cNvPr id="667" name="矩形 21"/>
            <p:cNvSpPr/>
            <p:nvPr/>
          </p:nvSpPr>
          <p:spPr>
            <a:xfrm>
              <a:off x="7319880" y="1687680"/>
              <a:ext cx="790920" cy="793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直接连接符 22"/>
            <p:cNvSpPr/>
            <p:nvPr/>
          </p:nvSpPr>
          <p:spPr>
            <a:xfrm>
              <a:off x="7348320" y="2084400"/>
              <a:ext cx="79092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直接连接符 23"/>
            <p:cNvSpPr/>
            <p:nvPr/>
          </p:nvSpPr>
          <p:spPr>
            <a:xfrm>
              <a:off x="7715160" y="1700280"/>
              <a:ext cx="0" cy="79380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TextBox 25"/>
          <p:cNvSpPr/>
          <p:nvPr/>
        </p:nvSpPr>
        <p:spPr>
          <a:xfrm>
            <a:off x="4910040" y="17510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26"/>
          <p:cNvSpPr/>
          <p:nvPr/>
        </p:nvSpPr>
        <p:spPr>
          <a:xfrm>
            <a:off x="7359480" y="172260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27"/>
          <p:cNvSpPr/>
          <p:nvPr/>
        </p:nvSpPr>
        <p:spPr>
          <a:xfrm>
            <a:off x="5653080" y="1747800"/>
            <a:ext cx="6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28"/>
          <p:cNvSpPr/>
          <p:nvPr/>
        </p:nvSpPr>
        <p:spPr>
          <a:xfrm>
            <a:off x="6638760" y="1760400"/>
            <a:ext cx="6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2" descr=""/>
          <p:cNvPicPr/>
          <p:nvPr/>
        </p:nvPicPr>
        <p:blipFill>
          <a:blip r:embed="rId1"/>
          <a:stretch/>
        </p:blipFill>
        <p:spPr>
          <a:xfrm>
            <a:off x="76320" y="2655720"/>
            <a:ext cx="2246040" cy="21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矩形 1"/>
          <p:cNvSpPr/>
          <p:nvPr/>
        </p:nvSpPr>
        <p:spPr>
          <a:xfrm>
            <a:off x="446040" y="853920"/>
            <a:ext cx="8339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，想一想，用加点的词语说一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1"/>
          <p:cNvSpPr/>
          <p:nvPr/>
        </p:nvSpPr>
        <p:spPr>
          <a:xfrm>
            <a:off x="534960" y="1714680"/>
            <a:ext cx="8128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官员们一边看一边议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一边刮胡子，一边逗露西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一边说，一边拿着笔在纸上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组合 29"/>
          <p:cNvGrpSpPr/>
          <p:nvPr/>
        </p:nvGrpSpPr>
        <p:grpSpPr>
          <a:xfrm>
            <a:off x="2359800" y="2185920"/>
            <a:ext cx="655560" cy="398880"/>
            <a:chOff x="2359800" y="2185920"/>
            <a:chExt cx="655560" cy="398880"/>
          </a:xfrm>
        </p:grpSpPr>
        <p:sp>
          <p:nvSpPr>
            <p:cNvPr id="678" name="矩形 7"/>
            <p:cNvSpPr/>
            <p:nvPr/>
          </p:nvSpPr>
          <p:spPr>
            <a:xfrm>
              <a:off x="2359800" y="218592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矩形 8"/>
            <p:cNvSpPr/>
            <p:nvPr/>
          </p:nvSpPr>
          <p:spPr>
            <a:xfrm>
              <a:off x="2761560" y="218592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组合 29"/>
          <p:cNvGrpSpPr/>
          <p:nvPr/>
        </p:nvGrpSpPr>
        <p:grpSpPr>
          <a:xfrm>
            <a:off x="3594600" y="2165400"/>
            <a:ext cx="655560" cy="398880"/>
            <a:chOff x="3594600" y="2165400"/>
            <a:chExt cx="655560" cy="398880"/>
          </a:xfrm>
        </p:grpSpPr>
        <p:sp>
          <p:nvSpPr>
            <p:cNvPr id="681" name="矩形 13"/>
            <p:cNvSpPr/>
            <p:nvPr/>
          </p:nvSpPr>
          <p:spPr>
            <a:xfrm>
              <a:off x="3594600" y="216540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矩形 14"/>
            <p:cNvSpPr/>
            <p:nvPr/>
          </p:nvSpPr>
          <p:spPr>
            <a:xfrm>
              <a:off x="3996360" y="216540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组合 29"/>
          <p:cNvGrpSpPr/>
          <p:nvPr/>
        </p:nvGrpSpPr>
        <p:grpSpPr>
          <a:xfrm>
            <a:off x="1994400" y="2906640"/>
            <a:ext cx="655560" cy="398880"/>
            <a:chOff x="1994400" y="2906640"/>
            <a:chExt cx="655560" cy="398880"/>
          </a:xfrm>
        </p:grpSpPr>
        <p:sp>
          <p:nvSpPr>
            <p:cNvPr id="684" name="矩形 16"/>
            <p:cNvSpPr/>
            <p:nvPr/>
          </p:nvSpPr>
          <p:spPr>
            <a:xfrm>
              <a:off x="1994400" y="290664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17"/>
            <p:cNvSpPr/>
            <p:nvPr/>
          </p:nvSpPr>
          <p:spPr>
            <a:xfrm>
              <a:off x="2396160" y="290664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组合 29"/>
          <p:cNvGrpSpPr/>
          <p:nvPr/>
        </p:nvGrpSpPr>
        <p:grpSpPr>
          <a:xfrm>
            <a:off x="4413960" y="2935440"/>
            <a:ext cx="655560" cy="398880"/>
            <a:chOff x="4413960" y="2935440"/>
            <a:chExt cx="655560" cy="398880"/>
          </a:xfrm>
        </p:grpSpPr>
        <p:sp>
          <p:nvSpPr>
            <p:cNvPr id="687" name="矩形 19"/>
            <p:cNvSpPr/>
            <p:nvPr/>
          </p:nvSpPr>
          <p:spPr>
            <a:xfrm>
              <a:off x="4413960" y="293544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矩形 20"/>
            <p:cNvSpPr/>
            <p:nvPr/>
          </p:nvSpPr>
          <p:spPr>
            <a:xfrm>
              <a:off x="4815720" y="293544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组合 29"/>
          <p:cNvGrpSpPr/>
          <p:nvPr/>
        </p:nvGrpSpPr>
        <p:grpSpPr>
          <a:xfrm>
            <a:off x="1994400" y="3638520"/>
            <a:ext cx="655560" cy="398880"/>
            <a:chOff x="1994400" y="3638520"/>
            <a:chExt cx="655560" cy="398880"/>
          </a:xfrm>
        </p:grpSpPr>
        <p:sp>
          <p:nvSpPr>
            <p:cNvPr id="690" name="矩形 22"/>
            <p:cNvSpPr/>
            <p:nvPr/>
          </p:nvSpPr>
          <p:spPr>
            <a:xfrm>
              <a:off x="1994400" y="363852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23"/>
            <p:cNvSpPr/>
            <p:nvPr/>
          </p:nvSpPr>
          <p:spPr>
            <a:xfrm>
              <a:off x="2396160" y="363852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29"/>
          <p:cNvGrpSpPr/>
          <p:nvPr/>
        </p:nvGrpSpPr>
        <p:grpSpPr>
          <a:xfrm>
            <a:off x="3574080" y="3646440"/>
            <a:ext cx="655560" cy="398880"/>
            <a:chOff x="3574080" y="3646440"/>
            <a:chExt cx="655560" cy="398880"/>
          </a:xfrm>
        </p:grpSpPr>
        <p:sp>
          <p:nvSpPr>
            <p:cNvPr id="693" name="矩形 25"/>
            <p:cNvSpPr/>
            <p:nvPr/>
          </p:nvSpPr>
          <p:spPr>
            <a:xfrm>
              <a:off x="3574080" y="364644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矩形 26"/>
            <p:cNvSpPr/>
            <p:nvPr/>
          </p:nvSpPr>
          <p:spPr>
            <a:xfrm>
              <a:off x="3975840" y="364644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宋体"/>
                </a:rPr>
                <a:t>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文本框 1"/>
          <p:cNvSpPr/>
          <p:nvPr/>
        </p:nvSpPr>
        <p:spPr>
          <a:xfrm>
            <a:off x="4924440" y="223524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dò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1"/>
          <p:cNvSpPr/>
          <p:nvPr/>
        </p:nvSpPr>
        <p:spPr>
          <a:xfrm>
            <a:off x="1400040" y="922320"/>
            <a:ext cx="712944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我一边复习功课，一边把难写的字写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老师一边讲课，一边在黑板上写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我一边和弟弟说话，一边麻利地穿好衣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2" descr="C:\Users\Administrator\Desktop\teacher3.jpg"/>
          <p:cNvPicPr/>
          <p:nvPr/>
        </p:nvPicPr>
        <p:blipFill>
          <a:blip r:embed="rId1"/>
          <a:stretch/>
        </p:blipFill>
        <p:spPr>
          <a:xfrm>
            <a:off x="0" y="3133800"/>
            <a:ext cx="1855800" cy="200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6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1" dur="500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6" dur="500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组合 5"/>
          <p:cNvGrpSpPr/>
          <p:nvPr/>
        </p:nvGrpSpPr>
        <p:grpSpPr>
          <a:xfrm>
            <a:off x="514440" y="284040"/>
            <a:ext cx="1157040" cy="581400"/>
            <a:chOff x="514440" y="284040"/>
            <a:chExt cx="1157040" cy="581400"/>
          </a:xfrm>
        </p:grpSpPr>
        <p:pic>
          <p:nvPicPr>
            <p:cNvPr id="699" name="Picture 2" descr="E:\孙巧灵\2016秋上\上课课件\制作\R一语上\人一语大课堂（正文）\字词句运用新.tif"/>
            <p:cNvPicPr/>
            <p:nvPr/>
          </p:nvPicPr>
          <p:blipFill>
            <a:blip r:embed="rId1"/>
            <a:srcRect l="0" t="0" r="96192" b="0"/>
            <a:stretch/>
          </p:blipFill>
          <p:spPr>
            <a:xfrm>
              <a:off x="514440" y="327960"/>
              <a:ext cx="97200" cy="48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0" name="Picture 2" descr="E:\孙巧灵\2016秋上\上课课件\制作\R一语上\人一语大课堂（正文）\字词句运用新.tif"/>
            <p:cNvPicPr/>
            <p:nvPr/>
          </p:nvPicPr>
          <p:blipFill>
            <a:blip r:embed="rId2"/>
            <a:srcRect l="0" t="0" r="96192" b="0"/>
            <a:stretch/>
          </p:blipFill>
          <p:spPr>
            <a:xfrm>
              <a:off x="1574280" y="327960"/>
              <a:ext cx="9720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TextBox 4"/>
            <p:cNvSpPr/>
            <p:nvPr/>
          </p:nvSpPr>
          <p:spPr>
            <a:xfrm>
              <a:off x="573120" y="284040"/>
              <a:ext cx="107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写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组合 4"/>
          <p:cNvGrpSpPr/>
          <p:nvPr/>
        </p:nvGrpSpPr>
        <p:grpSpPr>
          <a:xfrm>
            <a:off x="3755880" y="453960"/>
            <a:ext cx="2598840" cy="581400"/>
            <a:chOff x="3755880" y="453960"/>
            <a:chExt cx="2598840" cy="581400"/>
          </a:xfrm>
        </p:grpSpPr>
        <p:pic>
          <p:nvPicPr>
            <p:cNvPr id="703" name="图片 1" descr=""/>
            <p:cNvPicPr/>
            <p:nvPr/>
          </p:nvPicPr>
          <p:blipFill>
            <a:blip r:embed="rId3"/>
            <a:stretch/>
          </p:blipFill>
          <p:spPr>
            <a:xfrm>
              <a:off x="3755880" y="576360"/>
              <a:ext cx="33372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矩形 11"/>
            <p:cNvSpPr/>
            <p:nvPr/>
          </p:nvSpPr>
          <p:spPr>
            <a:xfrm>
              <a:off x="4013280" y="453960"/>
              <a:ext cx="234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1d23"/>
                  </a:solidFill>
                  <a:latin typeface="楷体"/>
                  <a:ea typeface="楷体"/>
                </a:rPr>
                <a:t>写话内容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组合 5"/>
          <p:cNvGrpSpPr/>
          <p:nvPr/>
        </p:nvGrpSpPr>
        <p:grpSpPr>
          <a:xfrm>
            <a:off x="822240" y="936720"/>
            <a:ext cx="7745400" cy="3706560"/>
            <a:chOff x="822240" y="936720"/>
            <a:chExt cx="7745400" cy="3706560"/>
          </a:xfrm>
        </p:grpSpPr>
        <p:sp>
          <p:nvSpPr>
            <p:cNvPr id="706" name="矩形 2"/>
            <p:cNvSpPr/>
            <p:nvPr/>
          </p:nvSpPr>
          <p:spPr>
            <a:xfrm>
              <a:off x="822240" y="936720"/>
              <a:ext cx="774540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每个人都有自己喜爱的玩具。你最喜爱的玩具是什么？它是什么样子的？它好玩在哪里？先和同学交流，再写下来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7" name="图片 3" descr=""/>
            <p:cNvPicPr/>
            <p:nvPr/>
          </p:nvPicPr>
          <p:blipFill>
            <a:blip r:embed="rId4"/>
            <a:srcRect l="0" t="6085" r="0" b="0"/>
            <a:stretch/>
          </p:blipFill>
          <p:spPr>
            <a:xfrm>
              <a:off x="3179880" y="2802600"/>
              <a:ext cx="4460400" cy="1840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矩形 1"/>
          <p:cNvSpPr/>
          <p:nvPr/>
        </p:nvSpPr>
        <p:spPr>
          <a:xfrm>
            <a:off x="774720" y="928800"/>
            <a:ext cx="7912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首先点明自己喜欢的玩具是什么；接着介绍它的样子，包括用什么材料制成的，以及它的颜色、形状等，然后写清楚它好玩在哪里，给你带来了什么乐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组合 4"/>
          <p:cNvGrpSpPr/>
          <p:nvPr/>
        </p:nvGrpSpPr>
        <p:grpSpPr>
          <a:xfrm>
            <a:off x="517680" y="222120"/>
            <a:ext cx="2598480" cy="581400"/>
            <a:chOff x="517680" y="222120"/>
            <a:chExt cx="2598480" cy="581400"/>
          </a:xfrm>
        </p:grpSpPr>
        <p:pic>
          <p:nvPicPr>
            <p:cNvPr id="710" name="图片 2" descr=""/>
            <p:cNvPicPr/>
            <p:nvPr/>
          </p:nvPicPr>
          <p:blipFill>
            <a:blip r:embed="rId1"/>
            <a:stretch/>
          </p:blipFill>
          <p:spPr>
            <a:xfrm>
              <a:off x="517680" y="344520"/>
              <a:ext cx="33372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矩形 3"/>
            <p:cNvSpPr/>
            <p:nvPr/>
          </p:nvSpPr>
          <p:spPr>
            <a:xfrm>
              <a:off x="774720" y="222120"/>
              <a:ext cx="234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1d23"/>
                  </a:solidFill>
                  <a:latin typeface="楷体"/>
                  <a:ea typeface="楷体"/>
                </a:rPr>
                <a:t>写话指导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矩形 1"/>
          <p:cNvSpPr/>
          <p:nvPr/>
        </p:nvSpPr>
        <p:spPr>
          <a:xfrm>
            <a:off x="542880" y="611280"/>
            <a:ext cx="8150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注意语句通顺，叙述有条理，一个方面说完再说另一个方面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每段开头要空两格，注意标点符号也要占一格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写完后大家朗读，对不通顺的句子进行修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组合 6"/>
          <p:cNvGrpSpPr/>
          <p:nvPr/>
        </p:nvGrpSpPr>
        <p:grpSpPr>
          <a:xfrm>
            <a:off x="392040" y="195120"/>
            <a:ext cx="2598840" cy="581400"/>
            <a:chOff x="392040" y="195120"/>
            <a:chExt cx="2598840" cy="581400"/>
          </a:xfrm>
        </p:grpSpPr>
        <p:pic>
          <p:nvPicPr>
            <p:cNvPr id="714" name="图片 2" descr=""/>
            <p:cNvPicPr/>
            <p:nvPr/>
          </p:nvPicPr>
          <p:blipFill>
            <a:blip r:embed="rId1"/>
            <a:stretch/>
          </p:blipFill>
          <p:spPr>
            <a:xfrm>
              <a:off x="392040" y="317520"/>
              <a:ext cx="33372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矩形 3"/>
            <p:cNvSpPr/>
            <p:nvPr/>
          </p:nvSpPr>
          <p:spPr>
            <a:xfrm>
              <a:off x="649440" y="195120"/>
              <a:ext cx="234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1d23"/>
                  </a:solidFill>
                  <a:latin typeface="楷体"/>
                  <a:ea typeface="楷体"/>
                </a:rPr>
                <a:t>写话示例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组合 7"/>
          <p:cNvGrpSpPr/>
          <p:nvPr/>
        </p:nvGrpSpPr>
        <p:grpSpPr>
          <a:xfrm>
            <a:off x="798480" y="581040"/>
            <a:ext cx="7877160" cy="1263240"/>
            <a:chOff x="798480" y="581040"/>
            <a:chExt cx="7877160" cy="1263240"/>
          </a:xfrm>
        </p:grpSpPr>
        <p:sp>
          <p:nvSpPr>
            <p:cNvPr id="717" name="矩形 1"/>
            <p:cNvSpPr/>
            <p:nvPr/>
          </p:nvSpPr>
          <p:spPr>
            <a:xfrm>
              <a:off x="3131280" y="581040"/>
              <a:ext cx="344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我最喜欢的玩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矩形 5"/>
            <p:cNvSpPr/>
            <p:nvPr/>
          </p:nvSpPr>
          <p:spPr>
            <a:xfrm>
              <a:off x="798480" y="1165680"/>
              <a:ext cx="787716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我最喜欢的玩具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——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是带发声器的毛毛虫。它是草绿色的，用手一触摸，就扭动着身子，它还发出动听的音乐。它手里还拿着一颗红色的心，是为了献给喜欢它的人。它又滑稽又可爱，我很喜欢它。它是我的好伙伴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1"/>
          <p:cNvSpPr/>
          <p:nvPr/>
        </p:nvSpPr>
        <p:spPr>
          <a:xfrm>
            <a:off x="711360" y="441360"/>
            <a:ext cx="7883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每天放学回家就要摸它一下，一摸它就发出美妙的声音。它天天陪伴着我写完作业。我真想把它放回大自然，让它可以自由自在地生活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可它是假的，但我们要爱护昆虫和动物，它们都是大自然中的一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组合 6"/>
          <p:cNvGrpSpPr/>
          <p:nvPr/>
        </p:nvGrpSpPr>
        <p:grpSpPr>
          <a:xfrm>
            <a:off x="1835280" y="150840"/>
            <a:ext cx="6406920" cy="4475160"/>
            <a:chOff x="1835280" y="150840"/>
            <a:chExt cx="6406920" cy="4475160"/>
          </a:xfrm>
        </p:grpSpPr>
        <p:pic>
          <p:nvPicPr>
            <p:cNvPr id="721" name="图片 5" descr=""/>
            <p:cNvPicPr/>
            <p:nvPr/>
          </p:nvPicPr>
          <p:blipFill>
            <a:blip r:embed="rId1"/>
            <a:stretch/>
          </p:blipFill>
          <p:spPr>
            <a:xfrm>
              <a:off x="1835280" y="692280"/>
              <a:ext cx="5724000" cy="39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图片 1" descr=""/>
            <p:cNvPicPr/>
            <p:nvPr/>
          </p:nvPicPr>
          <p:blipFill>
            <a:blip r:embed="rId2"/>
            <a:stretch/>
          </p:blipFill>
          <p:spPr>
            <a:xfrm>
              <a:off x="6292800" y="150840"/>
              <a:ext cx="1949400" cy="1499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3" name="组合 5"/>
          <p:cNvGrpSpPr/>
          <p:nvPr/>
        </p:nvGrpSpPr>
        <p:grpSpPr>
          <a:xfrm>
            <a:off x="507960" y="385920"/>
            <a:ext cx="1573200" cy="581400"/>
            <a:chOff x="507960" y="385920"/>
            <a:chExt cx="1573200" cy="581400"/>
          </a:xfrm>
        </p:grpSpPr>
        <p:pic>
          <p:nvPicPr>
            <p:cNvPr id="724" name="Picture 2" descr="E:\孙巧灵\2016秋上\上课课件\制作\R一语上\人一语大课堂（正文）\字词句运用新.tif"/>
            <p:cNvPicPr/>
            <p:nvPr/>
          </p:nvPicPr>
          <p:blipFill>
            <a:blip r:embed="rId3"/>
            <a:srcRect l="0" t="0" r="96192" b="0"/>
            <a:stretch/>
          </p:blipFill>
          <p:spPr>
            <a:xfrm>
              <a:off x="507960" y="448920"/>
              <a:ext cx="97200" cy="48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Picture 2" descr="E:\孙巧灵\2016秋上\上课课件\制作\R一语上\人一语大课堂（正文）\字词句运用新.tif"/>
            <p:cNvPicPr/>
            <p:nvPr/>
          </p:nvPicPr>
          <p:blipFill>
            <a:blip r:embed="rId4"/>
            <a:srcRect l="0" t="0" r="96192" b="0"/>
            <a:stretch/>
          </p:blipFill>
          <p:spPr>
            <a:xfrm>
              <a:off x="1957680" y="448920"/>
              <a:ext cx="97200" cy="48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TextBox 4"/>
            <p:cNvSpPr/>
            <p:nvPr/>
          </p:nvSpPr>
          <p:spPr>
            <a:xfrm>
              <a:off x="566640" y="385920"/>
              <a:ext cx="151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展示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矩形 9"/>
          <p:cNvSpPr/>
          <p:nvPr/>
        </p:nvSpPr>
        <p:spPr>
          <a:xfrm>
            <a:off x="2398680" y="1284120"/>
            <a:ext cx="531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白云   乌云   朝霞   晚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雨点   霜冻   雪花   冰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小溪   河流   湖泊   海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组合 17"/>
          <p:cNvGrpSpPr/>
          <p:nvPr/>
        </p:nvGrpSpPr>
        <p:grpSpPr>
          <a:xfrm>
            <a:off x="2606760" y="3070080"/>
            <a:ext cx="4395600" cy="898560"/>
            <a:chOff x="2606760" y="3070080"/>
            <a:chExt cx="4395600" cy="898560"/>
          </a:xfrm>
        </p:grpSpPr>
        <p:sp>
          <p:nvSpPr>
            <p:cNvPr id="729" name="横卷形 18"/>
            <p:cNvSpPr/>
            <p:nvPr/>
          </p:nvSpPr>
          <p:spPr>
            <a:xfrm>
              <a:off x="2606760" y="3070080"/>
              <a:ext cx="4334040" cy="89856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矩形 19"/>
            <p:cNvSpPr/>
            <p:nvPr/>
          </p:nvSpPr>
          <p:spPr>
            <a:xfrm>
              <a:off x="2840040" y="3206160"/>
              <a:ext cx="416232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都是关于大自然的词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矩形 20"/>
          <p:cNvSpPr/>
          <p:nvPr/>
        </p:nvSpPr>
        <p:spPr>
          <a:xfrm>
            <a:off x="2398680" y="3259080"/>
            <a:ext cx="5434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"/>
                <a:ea typeface="楷体"/>
              </a:rPr>
              <a:t>春风   寒风   狂风   暴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图片 1" descr=""/>
          <p:cNvPicPr/>
          <p:nvPr/>
        </p:nvPicPr>
        <p:blipFill>
          <a:blip r:embed="rId1"/>
          <a:stretch/>
        </p:blipFill>
        <p:spPr>
          <a:xfrm>
            <a:off x="1582560" y="639720"/>
            <a:ext cx="5724720" cy="393228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2" descr=""/>
          <p:cNvPicPr/>
          <p:nvPr/>
        </p:nvPicPr>
        <p:blipFill>
          <a:blip r:embed="rId2"/>
          <a:stretch/>
        </p:blipFill>
        <p:spPr>
          <a:xfrm>
            <a:off x="6040440" y="96840"/>
            <a:ext cx="1949400" cy="1500120"/>
          </a:xfrm>
          <a:prstGeom prst="rect">
            <a:avLst/>
          </a:prstGeom>
          <a:ln w="0">
            <a:noFill/>
          </a:ln>
        </p:spPr>
      </p:pic>
      <p:sp>
        <p:nvSpPr>
          <p:cNvPr id="734" name="矩形 3"/>
          <p:cNvSpPr/>
          <p:nvPr/>
        </p:nvSpPr>
        <p:spPr>
          <a:xfrm>
            <a:off x="2536920" y="1314360"/>
            <a:ext cx="42606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含苞欲放   百花争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花红柳绿   春色满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4"/>
          <p:cNvGrpSpPr/>
          <p:nvPr/>
        </p:nvGrpSpPr>
        <p:grpSpPr>
          <a:xfrm>
            <a:off x="2392200" y="2903400"/>
            <a:ext cx="4367520" cy="898560"/>
            <a:chOff x="2392200" y="2903400"/>
            <a:chExt cx="4367520" cy="898560"/>
          </a:xfrm>
        </p:grpSpPr>
        <p:sp>
          <p:nvSpPr>
            <p:cNvPr id="736" name="横卷形 5"/>
            <p:cNvSpPr/>
            <p:nvPr/>
          </p:nvSpPr>
          <p:spPr>
            <a:xfrm>
              <a:off x="2392200" y="2903400"/>
              <a:ext cx="4307400" cy="89856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矩形 6"/>
            <p:cNvSpPr/>
            <p:nvPr/>
          </p:nvSpPr>
          <p:spPr>
            <a:xfrm>
              <a:off x="2624040" y="2971080"/>
              <a:ext cx="413568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都是关于春天的词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矩形 7"/>
          <p:cNvSpPr/>
          <p:nvPr/>
        </p:nvSpPr>
        <p:spPr>
          <a:xfrm>
            <a:off x="2478240" y="2765520"/>
            <a:ext cx="4427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草长莺飞   欣欣向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绿草如茵   春暖花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2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组合 19"/>
          <p:cNvGrpSpPr/>
          <p:nvPr/>
        </p:nvGrpSpPr>
        <p:grpSpPr>
          <a:xfrm>
            <a:off x="507960" y="399960"/>
            <a:ext cx="2365560" cy="581400"/>
            <a:chOff x="507960" y="399960"/>
            <a:chExt cx="2365560" cy="581400"/>
          </a:xfrm>
        </p:grpSpPr>
        <p:pic>
          <p:nvPicPr>
            <p:cNvPr id="580" name="Picture 2" descr="E:\孙巧灵\2016秋上\上课课件\制作\R一语上\人一语大课堂（正文）\字词句运用新.tif"/>
            <p:cNvPicPr/>
            <p:nvPr/>
          </p:nvPicPr>
          <p:blipFill>
            <a:blip r:embed="rId1"/>
            <a:srcRect l="0" t="0" r="96192" b="0"/>
            <a:stretch/>
          </p:blipFill>
          <p:spPr>
            <a:xfrm>
              <a:off x="507960" y="449280"/>
              <a:ext cx="972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2" descr="E:\孙巧灵\2016秋上\上课课件\制作\R一语上\人一语大课堂（正文）\字词句运用新.tif"/>
            <p:cNvPicPr/>
            <p:nvPr/>
          </p:nvPicPr>
          <p:blipFill>
            <a:blip r:embed="rId2"/>
            <a:srcRect l="0" t="0" r="96192" b="0"/>
            <a:stretch/>
          </p:blipFill>
          <p:spPr>
            <a:xfrm>
              <a:off x="2776320" y="449280"/>
              <a:ext cx="9720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Box 22"/>
            <p:cNvSpPr/>
            <p:nvPr/>
          </p:nvSpPr>
          <p:spPr>
            <a:xfrm>
              <a:off x="566640" y="399960"/>
              <a:ext cx="226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识字加油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TextBox 6"/>
          <p:cNvSpPr/>
          <p:nvPr/>
        </p:nvSpPr>
        <p:spPr>
          <a:xfrm>
            <a:off x="554040" y="194940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15"/>
          <p:cNvSpPr/>
          <p:nvPr/>
        </p:nvSpPr>
        <p:spPr>
          <a:xfrm>
            <a:off x="640080" y="1414440"/>
            <a:ext cx="11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t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6"/>
          <p:cNvSpPr/>
          <p:nvPr/>
        </p:nvSpPr>
        <p:spPr>
          <a:xfrm>
            <a:off x="2082960" y="1994040"/>
            <a:ext cx="129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18"/>
          <p:cNvSpPr/>
          <p:nvPr/>
        </p:nvSpPr>
        <p:spPr>
          <a:xfrm>
            <a:off x="2028240" y="1406520"/>
            <a:ext cx="159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ɡā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6"/>
          <p:cNvSpPr/>
          <p:nvPr/>
        </p:nvSpPr>
        <p:spPr>
          <a:xfrm>
            <a:off x="3641760" y="2001960"/>
            <a:ext cx="129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20"/>
          <p:cNvSpPr/>
          <p:nvPr/>
        </p:nvSpPr>
        <p:spPr>
          <a:xfrm>
            <a:off x="3756240" y="1414440"/>
            <a:ext cx="107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q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3" descr="C:\Users\Administrator\Desktop\p42_b.jpg"/>
          <p:cNvPicPr/>
          <p:nvPr/>
        </p:nvPicPr>
        <p:blipFill>
          <a:blip r:embed="rId3"/>
          <a:stretch/>
        </p:blipFill>
        <p:spPr>
          <a:xfrm>
            <a:off x="5243400" y="825480"/>
            <a:ext cx="3030480" cy="27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图片 7" descr=""/>
          <p:cNvPicPr/>
          <p:nvPr/>
        </p:nvPicPr>
        <p:blipFill>
          <a:blip r:embed="rId1"/>
          <a:stretch/>
        </p:blipFill>
        <p:spPr>
          <a:xfrm>
            <a:off x="1636560" y="623880"/>
            <a:ext cx="5724720" cy="393372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8" descr=""/>
          <p:cNvPicPr/>
          <p:nvPr/>
        </p:nvPicPr>
        <p:blipFill>
          <a:blip r:embed="rId2"/>
          <a:stretch/>
        </p:blipFill>
        <p:spPr>
          <a:xfrm>
            <a:off x="6094440" y="82440"/>
            <a:ext cx="1949400" cy="1500120"/>
          </a:xfrm>
          <a:prstGeom prst="rect">
            <a:avLst/>
          </a:prstGeom>
          <a:ln w="0">
            <a:noFill/>
          </a:ln>
        </p:spPr>
      </p:pic>
      <p:sp>
        <p:nvSpPr>
          <p:cNvPr id="741" name="矩形 9"/>
          <p:cNvSpPr/>
          <p:nvPr/>
        </p:nvSpPr>
        <p:spPr>
          <a:xfrm>
            <a:off x="2286000" y="1454040"/>
            <a:ext cx="46990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书籍是人类进步的阶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高尔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组合 10"/>
          <p:cNvGrpSpPr/>
          <p:nvPr/>
        </p:nvGrpSpPr>
        <p:grpSpPr>
          <a:xfrm>
            <a:off x="2392200" y="2903400"/>
            <a:ext cx="4367520" cy="898560"/>
            <a:chOff x="2392200" y="2903400"/>
            <a:chExt cx="4367520" cy="898560"/>
          </a:xfrm>
        </p:grpSpPr>
        <p:sp>
          <p:nvSpPr>
            <p:cNvPr id="743" name="横卷形 11"/>
            <p:cNvSpPr/>
            <p:nvPr/>
          </p:nvSpPr>
          <p:spPr>
            <a:xfrm>
              <a:off x="2392200" y="2903400"/>
              <a:ext cx="4307400" cy="89856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矩形 12"/>
            <p:cNvSpPr/>
            <p:nvPr/>
          </p:nvSpPr>
          <p:spPr>
            <a:xfrm>
              <a:off x="2624040" y="2971080"/>
              <a:ext cx="4135680" cy="7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这是关于名人名言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矩形 14"/>
          <p:cNvSpPr/>
          <p:nvPr/>
        </p:nvSpPr>
        <p:spPr>
          <a:xfrm>
            <a:off x="2085840" y="2797200"/>
            <a:ext cx="52754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世上无难事，只要肯攀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"/>
                <a:ea typeface="楷体"/>
              </a:rPr>
              <a:t>             ——</a:t>
            </a:r>
            <a:r>
              <a:rPr b="1" lang="zh-CN" sz="3200" spc="-1" strike="noStrike">
                <a:solidFill>
                  <a:srgbClr val="ff00ff"/>
                </a:solidFill>
                <a:latin typeface="楷体"/>
                <a:ea typeface="楷体"/>
              </a:rPr>
              <a:t>毛泽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组合 5"/>
          <p:cNvGrpSpPr/>
          <p:nvPr/>
        </p:nvGrpSpPr>
        <p:grpSpPr>
          <a:xfrm>
            <a:off x="507960" y="395280"/>
            <a:ext cx="1916280" cy="581400"/>
            <a:chOff x="507960" y="395280"/>
            <a:chExt cx="1916280" cy="581400"/>
          </a:xfrm>
        </p:grpSpPr>
        <p:pic>
          <p:nvPicPr>
            <p:cNvPr id="747" name="Picture 2" descr="E:\孙巧灵\2016秋上\上课课件\制作\R一语上\人一语大课堂（正文）\字词句运用新.tif"/>
            <p:cNvPicPr/>
            <p:nvPr/>
          </p:nvPicPr>
          <p:blipFill>
            <a:blip r:embed="rId1"/>
            <a:srcRect l="0" t="0" r="96192" b="0"/>
            <a:stretch/>
          </p:blipFill>
          <p:spPr>
            <a:xfrm>
              <a:off x="507960" y="449640"/>
              <a:ext cx="972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2" descr="E:\孙巧灵\2016秋上\上课课件\制作\R一语上\人一语大课堂（正文）\字词句运用新.tif"/>
            <p:cNvPicPr/>
            <p:nvPr/>
          </p:nvPicPr>
          <p:blipFill>
            <a:blip r:embed="rId2"/>
            <a:srcRect l="0" t="0" r="96192" b="0"/>
            <a:stretch/>
          </p:blipFill>
          <p:spPr>
            <a:xfrm>
              <a:off x="2327040" y="449640"/>
              <a:ext cx="9720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TextBox 4"/>
            <p:cNvSpPr/>
            <p:nvPr/>
          </p:nvSpPr>
          <p:spPr>
            <a:xfrm>
              <a:off x="528120" y="395280"/>
              <a:ext cx="184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日积月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0" name="Picture 3" descr="C:\Users\Administrator\Desktop\t0191fbb5646a382062.jpg"/>
          <p:cNvPicPr/>
          <p:nvPr/>
        </p:nvPicPr>
        <p:blipFill>
          <a:blip r:embed="rId3"/>
          <a:srcRect l="1602" t="0" r="0" b="0"/>
          <a:stretch/>
        </p:blipFill>
        <p:spPr>
          <a:xfrm>
            <a:off x="0" y="1452600"/>
            <a:ext cx="5076720" cy="3405240"/>
          </a:xfrm>
          <a:prstGeom prst="rect">
            <a:avLst/>
          </a:prstGeom>
          <a:ln w="0">
            <a:noFill/>
          </a:ln>
        </p:spPr>
      </p:pic>
      <p:sp>
        <p:nvSpPr>
          <p:cNvPr id="751" name="矩形 8"/>
          <p:cNvSpPr/>
          <p:nvPr/>
        </p:nvSpPr>
        <p:spPr>
          <a:xfrm>
            <a:off x="4962600" y="592200"/>
            <a:ext cx="3992400" cy="37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小儿垂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胡令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蓬头稚子学垂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侧坐莓苔草映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路人借问遥招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怕得鱼惊不应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矩形 1"/>
          <p:cNvSpPr/>
          <p:nvPr/>
        </p:nvSpPr>
        <p:spPr>
          <a:xfrm>
            <a:off x="877320" y="206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者简介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2"/>
          <p:cNvSpPr/>
          <p:nvPr/>
        </p:nvSpPr>
        <p:spPr>
          <a:xfrm>
            <a:off x="365040" y="961920"/>
            <a:ext cx="62532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胡令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唐朝诗人。年轻时以修补锅碗盆缸为生，人称“胡钉铰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jiǎ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”。他的主要作品有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儿垂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喜韩少府见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王昭君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2" descr="C:\Users\Administrator\Desktop\4227159_201410231958410504.jpg"/>
          <p:cNvPicPr/>
          <p:nvPr/>
        </p:nvPicPr>
        <p:blipFill>
          <a:blip r:embed="rId1"/>
          <a:stretch/>
        </p:blipFill>
        <p:spPr>
          <a:xfrm>
            <a:off x="6781680" y="1006560"/>
            <a:ext cx="213696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矩形 1"/>
          <p:cNvSpPr/>
          <p:nvPr/>
        </p:nvSpPr>
        <p:spPr>
          <a:xfrm>
            <a:off x="220680" y="201600"/>
            <a:ext cx="17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译文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2"/>
          <p:cNvSpPr/>
          <p:nvPr/>
        </p:nvSpPr>
        <p:spPr>
          <a:xfrm>
            <a:off x="3621240" y="671400"/>
            <a:ext cx="5235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头发蓬乱、面孔稚嫩的小孩在河边学钓鱼，侧着身子坐在草丛中，野草掩映了他的身影。路人想问路，小儿向路人招招手，生怕惊动了鱼儿，不敢回应过路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2" descr="C:\Users\Administrator\Desktop\388e1911e3af29a27a285cb399011fcc.jpg"/>
          <p:cNvPicPr/>
          <p:nvPr/>
        </p:nvPicPr>
        <p:blipFill>
          <a:blip r:embed="rId1"/>
          <a:stretch/>
        </p:blipFill>
        <p:spPr>
          <a:xfrm>
            <a:off x="0" y="1711440"/>
            <a:ext cx="3814920" cy="22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组合 5"/>
          <p:cNvGrpSpPr/>
          <p:nvPr/>
        </p:nvGrpSpPr>
        <p:grpSpPr>
          <a:xfrm>
            <a:off x="507960" y="395280"/>
            <a:ext cx="1916280" cy="581400"/>
            <a:chOff x="507960" y="395280"/>
            <a:chExt cx="1916280" cy="581400"/>
          </a:xfrm>
        </p:grpSpPr>
        <p:pic>
          <p:nvPicPr>
            <p:cNvPr id="759" name="Picture 2" descr="E:\孙巧灵\2016秋上\上课课件\制作\R一语上\人一语大课堂（正文）\字词句运用新.tif"/>
            <p:cNvPicPr/>
            <p:nvPr/>
          </p:nvPicPr>
          <p:blipFill>
            <a:blip r:embed="rId1"/>
            <a:srcRect l="0" t="0" r="96192" b="0"/>
            <a:stretch/>
          </p:blipFill>
          <p:spPr>
            <a:xfrm>
              <a:off x="507960" y="449640"/>
              <a:ext cx="972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Picture 2" descr="E:\孙巧灵\2016秋上\上课课件\制作\R一语上\人一语大课堂（正文）\字词句运用新.tif"/>
            <p:cNvPicPr/>
            <p:nvPr/>
          </p:nvPicPr>
          <p:blipFill>
            <a:blip r:embed="rId2"/>
            <a:srcRect l="0" t="0" r="96192" b="0"/>
            <a:stretch/>
          </p:blipFill>
          <p:spPr>
            <a:xfrm>
              <a:off x="2327040" y="449640"/>
              <a:ext cx="9720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TextBox 4"/>
            <p:cNvSpPr/>
            <p:nvPr/>
          </p:nvSpPr>
          <p:spPr>
            <a:xfrm>
              <a:off x="528120" y="395280"/>
              <a:ext cx="184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爱阅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矩形 6"/>
          <p:cNvSpPr/>
          <p:nvPr/>
        </p:nvSpPr>
        <p:spPr>
          <a:xfrm>
            <a:off x="1015920" y="860400"/>
            <a:ext cx="72280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二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二小是儿童团员。他常常一边放牛，一边替八路军放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天，日寇来扫荡，走到山口迷了路。敌人看见王二小在山坡上放牛，就叫他带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矩形 1"/>
          <p:cNvSpPr/>
          <p:nvPr/>
        </p:nvSpPr>
        <p:spPr>
          <a:xfrm>
            <a:off x="1206360" y="703440"/>
            <a:ext cx="72280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二小装着顺从的样子走在前面，把敌人带进了八路军的埋伏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，四面八方响起了枪声。敌人知道上了当，就杀害了小英雄王二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时候，八路军从山上冲下来，消灭了全部敌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矩形 2"/>
          <p:cNvSpPr/>
          <p:nvPr/>
        </p:nvSpPr>
        <p:spPr>
          <a:xfrm>
            <a:off x="411120" y="1044720"/>
            <a:ext cx="85122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【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扫荡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武力或其他手段肃清敌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【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山坡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顶与平地之间的倾斜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【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顺从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照别人的意思，不违背，不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【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埋伏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估计敌人要经过的地方秘密布置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，伺机出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图片 3" descr=""/>
          <p:cNvPicPr/>
          <p:nvPr/>
        </p:nvPicPr>
        <p:blipFill>
          <a:blip r:embed="rId1"/>
          <a:stretch/>
        </p:blipFill>
        <p:spPr>
          <a:xfrm>
            <a:off x="411120" y="198360"/>
            <a:ext cx="2610000" cy="55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矩形 1"/>
          <p:cNvSpPr/>
          <p:nvPr/>
        </p:nvSpPr>
        <p:spPr>
          <a:xfrm>
            <a:off x="525600" y="922320"/>
            <a:ext cx="80010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【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消灭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消灭，除掉（敌对的或有害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事物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【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英雄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怕困难，不顾自己，为人民利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英勇斗争，令人钦敬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【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面八方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泛指周围各地或各个方面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组合 4"/>
          <p:cNvGrpSpPr/>
          <p:nvPr/>
        </p:nvGrpSpPr>
        <p:grpSpPr>
          <a:xfrm>
            <a:off x="730080" y="938160"/>
            <a:ext cx="7659720" cy="3484440"/>
            <a:chOff x="730080" y="938160"/>
            <a:chExt cx="7659720" cy="3484440"/>
          </a:xfrm>
        </p:grpSpPr>
        <p:pic>
          <p:nvPicPr>
            <p:cNvPr id="768" name="Picture 2" descr=""/>
            <p:cNvPicPr/>
            <p:nvPr/>
          </p:nvPicPr>
          <p:blipFill>
            <a:blip r:embed="rId1"/>
            <a:stretch/>
          </p:blipFill>
          <p:spPr>
            <a:xfrm>
              <a:off x="4739400" y="2314080"/>
              <a:ext cx="3195000" cy="210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Text Box 5"/>
            <p:cNvSpPr/>
            <p:nvPr/>
          </p:nvSpPr>
          <p:spPr>
            <a:xfrm>
              <a:off x="730080" y="938160"/>
              <a:ext cx="7659720" cy="26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  <a:ea typeface="楷体"/>
                </a:rPr>
                <a:t>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  <a:ea typeface="楷体"/>
                </a:rPr>
                <a:t>本文记叙了儿童团员王二小用智慧把敌人带进八路军的埋伏圈，而自己却牺牲在敌人枪下的故事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  <a:ea typeface="楷体"/>
                </a:rPr>
                <a:t>赞扬了他机智勇敢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  <a:ea typeface="楷体"/>
                </a:rPr>
                <a:t>不怕牺牲的精神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0" name="图片 5" descr=""/>
          <p:cNvPicPr/>
          <p:nvPr/>
        </p:nvPicPr>
        <p:blipFill>
          <a:blip r:embed="rId2"/>
          <a:stretch/>
        </p:blipFill>
        <p:spPr>
          <a:xfrm>
            <a:off x="274680" y="260280"/>
            <a:ext cx="2636640" cy="5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6"/>
          <p:cNvSpPr/>
          <p:nvPr/>
        </p:nvSpPr>
        <p:spPr>
          <a:xfrm>
            <a:off x="1181160" y="202248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2"/>
          <p:cNvSpPr/>
          <p:nvPr/>
        </p:nvSpPr>
        <p:spPr>
          <a:xfrm>
            <a:off x="1355040" y="1487520"/>
            <a:ext cx="10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ni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6"/>
          <p:cNvSpPr/>
          <p:nvPr/>
        </p:nvSpPr>
        <p:spPr>
          <a:xfrm>
            <a:off x="2760840" y="2022480"/>
            <a:ext cx="130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5"/>
          <p:cNvSpPr/>
          <p:nvPr/>
        </p:nvSpPr>
        <p:spPr>
          <a:xfrm>
            <a:off x="3133800" y="1487520"/>
            <a:ext cx="71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图片 3" descr=""/>
          <p:cNvPicPr/>
          <p:nvPr/>
        </p:nvPicPr>
        <p:blipFill>
          <a:blip r:embed="rId1"/>
          <a:stretch/>
        </p:blipFill>
        <p:spPr>
          <a:xfrm>
            <a:off x="4697280" y="1222200"/>
            <a:ext cx="274320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Box 6"/>
          <p:cNvSpPr/>
          <p:nvPr/>
        </p:nvSpPr>
        <p:spPr>
          <a:xfrm>
            <a:off x="407880" y="201600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2"/>
          <p:cNvSpPr/>
          <p:nvPr/>
        </p:nvSpPr>
        <p:spPr>
          <a:xfrm>
            <a:off x="423720" y="1427040"/>
            <a:ext cx="12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ɡǔ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6"/>
          <p:cNvSpPr/>
          <p:nvPr/>
        </p:nvSpPr>
        <p:spPr>
          <a:xfrm>
            <a:off x="1936800" y="2014560"/>
            <a:ext cx="129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4"/>
          <p:cNvSpPr/>
          <p:nvPr/>
        </p:nvSpPr>
        <p:spPr>
          <a:xfrm>
            <a:off x="2069640" y="1425600"/>
            <a:ext cx="9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ti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6"/>
          <p:cNvSpPr/>
          <p:nvPr/>
        </p:nvSpPr>
        <p:spPr>
          <a:xfrm>
            <a:off x="3495600" y="201456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6"/>
          <p:cNvSpPr/>
          <p:nvPr/>
        </p:nvSpPr>
        <p:spPr>
          <a:xfrm>
            <a:off x="3345480" y="14270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hu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" descr="C:\Users\Administrator\Desktop\cc.jpg"/>
          <p:cNvPicPr/>
          <p:nvPr/>
        </p:nvPicPr>
        <p:blipFill>
          <a:blip r:embed="rId1"/>
          <a:stretch/>
        </p:blipFill>
        <p:spPr>
          <a:xfrm>
            <a:off x="5292720" y="11556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Box 6"/>
          <p:cNvSpPr/>
          <p:nvPr/>
        </p:nvSpPr>
        <p:spPr>
          <a:xfrm>
            <a:off x="1440000" y="204480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2"/>
          <p:cNvSpPr/>
          <p:nvPr/>
        </p:nvSpPr>
        <p:spPr>
          <a:xfrm>
            <a:off x="1350360" y="1509840"/>
            <a:ext cx="159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dà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" descr="C:\Users\Administrator\Desktop\267872-150P910563835.jpg"/>
          <p:cNvPicPr/>
          <p:nvPr/>
        </p:nvPicPr>
        <p:blipFill>
          <a:blip r:embed="rId1"/>
          <a:srcRect l="0" t="0" r="0" b="6569"/>
          <a:stretch/>
        </p:blipFill>
        <p:spPr>
          <a:xfrm>
            <a:off x="3852720" y="1079640"/>
            <a:ext cx="3252960" cy="303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Box 6"/>
          <p:cNvSpPr/>
          <p:nvPr/>
        </p:nvSpPr>
        <p:spPr>
          <a:xfrm>
            <a:off x="1049400" y="196380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2"/>
          <p:cNvSpPr/>
          <p:nvPr/>
        </p:nvSpPr>
        <p:spPr>
          <a:xfrm>
            <a:off x="1072800" y="1382760"/>
            <a:ext cx="125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hu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6"/>
          <p:cNvSpPr/>
          <p:nvPr/>
        </p:nvSpPr>
        <p:spPr>
          <a:xfrm>
            <a:off x="2714760" y="1962000"/>
            <a:ext cx="129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4"/>
          <p:cNvSpPr/>
          <p:nvPr/>
        </p:nvSpPr>
        <p:spPr>
          <a:xfrm>
            <a:off x="3067920" y="1382760"/>
            <a:ext cx="59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t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" descr="C:\Users\Administrator\Desktop\33048.jpg"/>
          <p:cNvPicPr/>
          <p:nvPr/>
        </p:nvPicPr>
        <p:blipFill>
          <a:blip r:embed="rId1"/>
          <a:stretch/>
        </p:blipFill>
        <p:spPr>
          <a:xfrm>
            <a:off x="4695840" y="1057320"/>
            <a:ext cx="2932200" cy="27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10"/>
          <p:cNvSpPr/>
          <p:nvPr/>
        </p:nvSpPr>
        <p:spPr>
          <a:xfrm>
            <a:off x="1635120" y="1355760"/>
            <a:ext cx="558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弹钢琴    练舞蹈    唱京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画图画    捏泥人    下围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滚铁环    荡秋千    滑滑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2" descr="C:\Users\Administrator\Desktop\2015-06-01_593969.jpg"/>
          <p:cNvPicPr/>
          <p:nvPr/>
        </p:nvPicPr>
        <p:blipFill>
          <a:blip r:embed="rId1"/>
          <a:srcRect l="3767" t="10534" r="56699" b="3371"/>
          <a:stretch/>
        </p:blipFill>
        <p:spPr>
          <a:xfrm>
            <a:off x="7089840" y="2695680"/>
            <a:ext cx="2054160" cy="22064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C:\Users\Administrator\Desktop\17b1OOOPICe5.jpg"/>
          <p:cNvPicPr/>
          <p:nvPr/>
        </p:nvPicPr>
        <p:blipFill>
          <a:blip r:embed="rId2"/>
          <a:stretch/>
        </p:blipFill>
        <p:spPr>
          <a:xfrm>
            <a:off x="0" y="0"/>
            <a:ext cx="2052720" cy="238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组合 1"/>
          <p:cNvGrpSpPr/>
          <p:nvPr/>
        </p:nvGrpSpPr>
        <p:grpSpPr>
          <a:xfrm>
            <a:off x="1136520" y="1389240"/>
            <a:ext cx="6840720" cy="2162160"/>
            <a:chOff x="1136520" y="1389240"/>
            <a:chExt cx="6840720" cy="2162160"/>
          </a:xfrm>
        </p:grpSpPr>
        <p:pic>
          <p:nvPicPr>
            <p:cNvPr id="614" name="Picture 4" descr="E:\文件中转站\课题图\LC24 副本.jpg"/>
            <p:cNvPicPr/>
            <p:nvPr/>
          </p:nvPicPr>
          <p:blipFill>
            <a:blip r:embed="rId1"/>
            <a:srcRect l="0" t="0" r="92028" b="0"/>
            <a:stretch/>
          </p:blipFill>
          <p:spPr>
            <a:xfrm>
              <a:off x="1136520" y="1775520"/>
              <a:ext cx="1154160" cy="177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圆角矩形标注 3"/>
            <p:cNvSpPr/>
            <p:nvPr/>
          </p:nvSpPr>
          <p:spPr>
            <a:xfrm>
              <a:off x="2720880" y="1389240"/>
              <a:ext cx="5256360" cy="1778040"/>
            </a:xfrm>
            <a:prstGeom prst="wedgeRoundRectCallout">
              <a:avLst>
                <a:gd name="adj1" fmla="val -56412"/>
                <a:gd name="adj2" fmla="val 30009"/>
                <a:gd name="adj3" fmla="val 16667"/>
              </a:avLst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我发现：这些词都和兴趣爱好有关。我还能说出更多词语，听音乐、看电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矩形 1"/>
          <p:cNvSpPr/>
          <p:nvPr/>
        </p:nvSpPr>
        <p:spPr>
          <a:xfrm>
            <a:off x="351000" y="1112760"/>
            <a:ext cx="3927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比一比，填一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58"/>
          <p:cNvGrpSpPr/>
          <p:nvPr/>
        </p:nvGrpSpPr>
        <p:grpSpPr>
          <a:xfrm>
            <a:off x="1012680" y="3060720"/>
            <a:ext cx="819360" cy="820800"/>
            <a:chOff x="1012680" y="3060720"/>
            <a:chExt cx="819360" cy="820800"/>
          </a:xfrm>
        </p:grpSpPr>
        <p:sp>
          <p:nvSpPr>
            <p:cNvPr id="618" name="矩形 8"/>
            <p:cNvSpPr/>
            <p:nvPr/>
          </p:nvSpPr>
          <p:spPr>
            <a:xfrm>
              <a:off x="1012680" y="3060720"/>
              <a:ext cx="790920" cy="792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直接连接符 9"/>
            <p:cNvSpPr/>
            <p:nvPr/>
          </p:nvSpPr>
          <p:spPr>
            <a:xfrm>
              <a:off x="1041120" y="3457440"/>
              <a:ext cx="79092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直接连接符 10"/>
            <p:cNvSpPr/>
            <p:nvPr/>
          </p:nvSpPr>
          <p:spPr>
            <a:xfrm>
              <a:off x="1407960" y="3089160"/>
              <a:ext cx="0" cy="792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TextBox 20"/>
          <p:cNvSpPr/>
          <p:nvPr/>
        </p:nvSpPr>
        <p:spPr>
          <a:xfrm>
            <a:off x="1171440" y="2052720"/>
            <a:ext cx="18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园   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21"/>
          <p:cNvSpPr/>
          <p:nvPr/>
        </p:nvSpPr>
        <p:spPr>
          <a:xfrm>
            <a:off x="279360" y="3135240"/>
            <a:ext cx="6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组合 58"/>
          <p:cNvGrpSpPr/>
          <p:nvPr/>
        </p:nvGrpSpPr>
        <p:grpSpPr>
          <a:xfrm>
            <a:off x="2276640" y="3075120"/>
            <a:ext cx="820440" cy="820440"/>
            <a:chOff x="2276640" y="3075120"/>
            <a:chExt cx="820440" cy="820440"/>
          </a:xfrm>
        </p:grpSpPr>
        <p:sp>
          <p:nvSpPr>
            <p:cNvPr id="624" name="矩形 23"/>
            <p:cNvSpPr/>
            <p:nvPr/>
          </p:nvSpPr>
          <p:spPr>
            <a:xfrm>
              <a:off x="2276640" y="3075120"/>
              <a:ext cx="792000" cy="79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直接连接符 24"/>
            <p:cNvSpPr/>
            <p:nvPr/>
          </p:nvSpPr>
          <p:spPr>
            <a:xfrm>
              <a:off x="2305080" y="3471840"/>
              <a:ext cx="79200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直接连接符 25"/>
            <p:cNvSpPr/>
            <p:nvPr/>
          </p:nvSpPr>
          <p:spPr>
            <a:xfrm>
              <a:off x="2673360" y="3103560"/>
              <a:ext cx="0" cy="79200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TextBox 26"/>
          <p:cNvSpPr/>
          <p:nvPr/>
        </p:nvSpPr>
        <p:spPr>
          <a:xfrm>
            <a:off x="3198960" y="3162240"/>
            <a:ext cx="6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组合 58"/>
          <p:cNvGrpSpPr/>
          <p:nvPr/>
        </p:nvGrpSpPr>
        <p:grpSpPr>
          <a:xfrm>
            <a:off x="5291280" y="3070080"/>
            <a:ext cx="819000" cy="820800"/>
            <a:chOff x="5291280" y="3070080"/>
            <a:chExt cx="819000" cy="820800"/>
          </a:xfrm>
        </p:grpSpPr>
        <p:sp>
          <p:nvSpPr>
            <p:cNvPr id="629" name="矩形 28"/>
            <p:cNvSpPr/>
            <p:nvPr/>
          </p:nvSpPr>
          <p:spPr>
            <a:xfrm>
              <a:off x="5291280" y="3070080"/>
              <a:ext cx="790560" cy="792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直接连接符 29"/>
            <p:cNvSpPr/>
            <p:nvPr/>
          </p:nvSpPr>
          <p:spPr>
            <a:xfrm>
              <a:off x="5319720" y="3466800"/>
              <a:ext cx="79056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直接连接符 30"/>
            <p:cNvSpPr/>
            <p:nvPr/>
          </p:nvSpPr>
          <p:spPr>
            <a:xfrm>
              <a:off x="5686560" y="3098520"/>
              <a:ext cx="0" cy="792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TextBox 31"/>
          <p:cNvSpPr/>
          <p:nvPr/>
        </p:nvSpPr>
        <p:spPr>
          <a:xfrm>
            <a:off x="5927760" y="2038320"/>
            <a:ext cx="18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只   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32"/>
          <p:cNvSpPr/>
          <p:nvPr/>
        </p:nvSpPr>
        <p:spPr>
          <a:xfrm>
            <a:off x="4648320" y="3135240"/>
            <a:ext cx="20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    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组合 58"/>
          <p:cNvGrpSpPr/>
          <p:nvPr/>
        </p:nvGrpSpPr>
        <p:grpSpPr>
          <a:xfrm>
            <a:off x="7518240" y="3060720"/>
            <a:ext cx="820800" cy="820800"/>
            <a:chOff x="7518240" y="3060720"/>
            <a:chExt cx="820800" cy="820800"/>
          </a:xfrm>
        </p:grpSpPr>
        <p:sp>
          <p:nvSpPr>
            <p:cNvPr id="635" name="矩形 39"/>
            <p:cNvSpPr/>
            <p:nvPr/>
          </p:nvSpPr>
          <p:spPr>
            <a:xfrm>
              <a:off x="7518240" y="3060720"/>
              <a:ext cx="792360" cy="792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直接连接符 40"/>
            <p:cNvSpPr/>
            <p:nvPr/>
          </p:nvSpPr>
          <p:spPr>
            <a:xfrm>
              <a:off x="7546680" y="3457440"/>
              <a:ext cx="79236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直接连接符 41"/>
            <p:cNvSpPr/>
            <p:nvPr/>
          </p:nvSpPr>
          <p:spPr>
            <a:xfrm>
              <a:off x="7914960" y="3089160"/>
              <a:ext cx="0" cy="792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TextBox 42"/>
          <p:cNvSpPr/>
          <p:nvPr/>
        </p:nvSpPr>
        <p:spPr>
          <a:xfrm>
            <a:off x="6877080" y="3125880"/>
            <a:ext cx="207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    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43"/>
          <p:cNvSpPr/>
          <p:nvPr/>
        </p:nvSpPr>
        <p:spPr>
          <a:xfrm>
            <a:off x="1089000" y="31021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44"/>
          <p:cNvSpPr/>
          <p:nvPr/>
        </p:nvSpPr>
        <p:spPr>
          <a:xfrm>
            <a:off x="2343240" y="31021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45"/>
          <p:cNvSpPr/>
          <p:nvPr/>
        </p:nvSpPr>
        <p:spPr>
          <a:xfrm>
            <a:off x="5359320" y="31100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46"/>
          <p:cNvSpPr/>
          <p:nvPr/>
        </p:nvSpPr>
        <p:spPr>
          <a:xfrm>
            <a:off x="7591320" y="310680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2" descr="C:\Users\Administrator\Desktop\sy_20100502171713425055.jpg"/>
          <p:cNvPicPr/>
          <p:nvPr/>
        </p:nvPicPr>
        <p:blipFill>
          <a:blip r:embed="rId1"/>
          <a:srcRect l="0" t="4765" r="0" b="6371"/>
          <a:stretch/>
        </p:blipFill>
        <p:spPr>
          <a:xfrm>
            <a:off x="4319640" y="0"/>
            <a:ext cx="2379600" cy="2197080"/>
          </a:xfrm>
          <a:prstGeom prst="rect">
            <a:avLst/>
          </a:prstGeom>
          <a:ln w="0">
            <a:noFill/>
          </a:ln>
        </p:spPr>
      </p:pic>
      <p:grpSp>
        <p:nvGrpSpPr>
          <p:cNvPr id="644" name="组合 50"/>
          <p:cNvGrpSpPr/>
          <p:nvPr/>
        </p:nvGrpSpPr>
        <p:grpSpPr>
          <a:xfrm>
            <a:off x="507960" y="399960"/>
            <a:ext cx="2365560" cy="581400"/>
            <a:chOff x="507960" y="399960"/>
            <a:chExt cx="2365560" cy="581400"/>
          </a:xfrm>
        </p:grpSpPr>
        <p:pic>
          <p:nvPicPr>
            <p:cNvPr id="645" name="Picture 2" descr="E:\孙巧灵\2016秋上\上课课件\制作\R一语上\人一语大课堂（正文）\字词句运用新.tif"/>
            <p:cNvPicPr/>
            <p:nvPr/>
          </p:nvPicPr>
          <p:blipFill>
            <a:blip r:embed="rId2"/>
            <a:srcRect l="0" t="0" r="96192" b="0"/>
            <a:stretch/>
          </p:blipFill>
          <p:spPr>
            <a:xfrm>
              <a:off x="507960" y="449280"/>
              <a:ext cx="972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2" descr="E:\孙巧灵\2016秋上\上课课件\制作\R一语上\人一语大课堂（正文）\字词句运用新.tif"/>
            <p:cNvPicPr/>
            <p:nvPr/>
          </p:nvPicPr>
          <p:blipFill>
            <a:blip r:embed="rId3"/>
            <a:srcRect l="0" t="0" r="96192" b="0"/>
            <a:stretch/>
          </p:blipFill>
          <p:spPr>
            <a:xfrm>
              <a:off x="2776320" y="449280"/>
              <a:ext cx="9720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TextBox 47"/>
            <p:cNvSpPr/>
            <p:nvPr/>
          </p:nvSpPr>
          <p:spPr>
            <a:xfrm>
              <a:off x="566640" y="399960"/>
              <a:ext cx="226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字词句运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7:05:12Z</dcterms:created>
  <dc:creator>User</dc:creator>
  <dc:description/>
  <dc:language>en-US</dc:language>
  <cp:lastModifiedBy>万润仪器贸易公司</cp:lastModifiedBy>
  <dcterms:modified xsi:type="dcterms:W3CDTF">2020-08-19T01:36:37Z</dcterms:modified>
  <cp:revision>80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